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A9A-3384-4480-B2B1-BB341AC6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410-E445-4ED2-A5FB-2ABC8C79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714-C83D-4E49-A727-BE512AB9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C6C-B8B2-447A-B965-024A7034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535-F29E-49A7-B64B-74C36D8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459-3C94-49E1-8120-4CB23DE6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20D-248C-401C-9E5C-560A872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B6B-8F62-4DA3-8DB9-EA2E8CE9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D1D-B8F0-4B86-B961-56C95CE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3B1-99DB-44DE-8ADD-01126A1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4BD-592B-4B8E-B006-D3AB608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256-FFEF-4868-8A72-2C285F5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B80-B12E-4FE7-B3CF-D5EE974F1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bankcoin.com/jakegint/wp-content/imagescaler/df8ee9b824716f36979d271a130a6eb0.jpg&amp;imgrefurl=http://ibankcoin.com/jakegint/2009/07/29/lord-of-the-flies-decade/&amp;usg=__CXB6ZRgtJMec9k2qLGQ-nxA5DVo=&amp;h=344&amp;w=450&amp;sz=37&amp;hl=en&amp;start=4&amp;um=1&amp;tbnid=fcgCVPGQY3TseM:&amp;tbnh=97&amp;tbnw=127&amp;prev=/images%3Fq%3DLord%2Bof%2Bthe%2BFlies%26hl%3Den%26safe%3Dactive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scienceblogs.com/startswithabang/upload/2009/06/galileo_the_leaning_tower_and/parachute.JPG&amp;imgrefurl=http://scienceblogs.com/startswithabang/2009/06/galileo_the_leaning_tower_and.php&amp;usg=__Y-5u0p5U2RvKF8QlYvsx1_zovNE=&amp;h=864&amp;w=606&amp;sz=49&amp;hl=en&amp;start=4&amp;um=1&amp;tbnid=CIWVYOD4_waDGM:&amp;tbnh=145&amp;tbnw=102&amp;prev=/images%3Fq%3Dparachute%26hl%3Den%26safe%3Dactive%26um%3D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ourses/essential/physicalsci/images/s7.thermometer.jpg&amp;imgrefurl=http://www.learner.org/courses/essential/physicalsci/session7/closer1.html&amp;usg=__WKetoS2C1oxbbp1CaFs00wTUHNM=&amp;h=300&amp;w=300&amp;sz=15&amp;hl=en&amp;start=5&amp;um=1&amp;tbnid=WCBtuWjKX0UDFM:&amp;tbnh=116&amp;tbnw=116&amp;prev=/images%3Fq%3Dthermometer%26hl%3Den%26safe%3Dactive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211.photobucket.com/albums/bb109/man_ray_sky/Conch_shell_2.jpg&amp;imgrefurl=http://www.myspace.com/195029423&amp;usg=__EX2hYhSS__oGH4Q_m2QqXhRUa5o=&amp;h=961&amp;w=1024&amp;sz=479&amp;hl=en&amp;start=5&amp;um=1&amp;tbnid=a96aPMydghi-ZM:&amp;tbnh=141&amp;tbnw=150&amp;prev=/images%3Fq%3Dconch%2Bshell%26hl%3Den%26safe%3Dactive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Chapter 9:  A View to a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s 153-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happened to the dead body caught in the parach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happened to Simon’s 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1:  Pre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o do you think is going to die in this Chapter? 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Question #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hat is the weather like on the island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hat does Simon discover on this p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724200"/>
            <a:ext cx="3038760" cy="232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92800" y="3191040"/>
            <a:ext cx="1936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How is the weather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5238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were all the boys doing together, when Piggy &amp; Ralph foun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Evening was come, not with calm beauty but with the threat of viol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literary term describes the sentence ab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usion, Infer or Fore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Symbol:  What did the CONCH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1523880"/>
            <a:ext cx="30765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line does Golding keep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repeating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on this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43200" y="338148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4:25:28Z</dcterms:created>
  <dc:creator>BPS</dc:creator>
  <dc:description/>
  <dc:language>en-US</dc:language>
  <cp:lastModifiedBy>BPS</cp:lastModifiedBy>
  <dcterms:modified xsi:type="dcterms:W3CDTF">2010-01-19T16:05:38Z</dcterms:modified>
  <cp:revision>11</cp:revision>
  <dc:subject/>
  <dc:title>Chapter 9:  A View to a Death</dc:title>
</cp:coreProperties>
</file>